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3322638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3D1-7DB9-4C70-9D2C-67C283A8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488-A7F9-4EBF-9035-8DF1649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938-8A9C-4E1B-BE18-FFC683D7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153-E621-4F40-937F-B265D369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364-0347-4984-9BAD-9712F025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2B6-8EE6-49A7-A994-D92BF6BF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FE3-98A5-4852-A467-129E143F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19F-074D-4173-8D9F-C8ADF1D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545-9546-460D-B722-88FAA810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0DC-0419-403C-B20F-00F9C83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42E-8650-4D2A-A225-88097041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5E6-F10F-4096-87E1-28395B5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A1E-64AC-4488-BD68-BAE4C31B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990720"/>
            <a:ext cx="39081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22:54:40Z</dcterms:created>
  <dc:creator>MF</dc:creator>
  <dc:description/>
  <dc:language>en-US</dc:language>
  <cp:lastModifiedBy>MF</cp:lastModifiedBy>
  <dcterms:modified xsi:type="dcterms:W3CDTF">2008-07-02T21:28:16Z</dcterms:modified>
  <cp:revision>6</cp:revision>
  <dc:subject/>
  <dc:title>PowerPoint-Präsentation</dc:title>
</cp:coreProperties>
</file>